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3D2D-087B-492C-BA1C-FB99D385E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DEF-798A-4BBC-8095-12A5D2C0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C0B-E7BC-4F76-AF95-A7ECB845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864-C94E-4AA5-BA10-ED92EDFB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923-7BFE-4200-9F3F-25AC70B2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6B25-6A93-41D5-9A5F-5C9DEA24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CE1F-D575-44A2-BF67-A0EAD116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53A3-77A6-499F-8D74-1C093214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1208-CBDF-4F2F-8051-92E5F5D0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6460-DB26-445D-AB4D-01DE26E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FF72-E3B1-4975-9E51-75D3E76D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943E-3EFF-4D64-A0A2-FB54033B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640-AC3A-4F7A-B1FD-1385CF24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1461-96F5-4468-9E6E-1D809311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EC6D-FE81-40BB-B2A2-8721CB0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8205-B751-4ADC-8F9D-31F087F5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21E5-D5F6-4580-BBE2-355353CC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7934-C9DD-4577-BD45-8267ADC9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B15E-A14F-47C7-B609-182D21FA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3DDA-1258-48B1-9E54-0A03172D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7706-CC46-45C6-A812-DB51A251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7A51-7730-4BEB-8C30-CDBD228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B171-AB46-45BA-B4D3-E9296E06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251-16A9-4CC9-8068-FC15D2D6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7B5F-8C81-4E9C-B666-CAFCC765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4845-8AF5-4039-B04B-3DA5455B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8DD4-E31E-42DC-8158-D7E70B6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0243-1A1F-4FE8-A0DB-1ED6B11C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AFFD-390B-4D53-986F-647166C3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BD732-1442-44E4-A797-A1098A7C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A9BB-1FAA-4103-B317-94137222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C4C9-581A-430F-8BFB-6087F1A7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8F828-9A88-4C73-90A7-7093539C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F0B99-43FA-4913-865F-57ECDD5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D0A-B707-4CBA-8CCE-387ED13B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A331-D0BA-4920-901A-475D4D60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6EA39-AAB9-4C52-AB3F-08F3795E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4B8B-DA9C-456E-B8A0-952AA723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AE86-1CEB-48C7-9AFC-97081395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327D-7C63-422A-A470-D2FA408F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2660-B833-4423-831A-0BF41534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474C-E90D-417C-9370-2DFF0C55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9E62E-61B2-40ED-9CEA-16CB8464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1D50-5B61-424F-8F40-3F6665C8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16309-22BE-410A-B7AA-F71316BE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EB2-B61C-4925-8B95-F3DDC1A1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CB54B-D5ED-4563-BC59-5F7DFF95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4975D-0C6D-4247-8C9E-4030C3D1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BCDD-ACF4-49DC-BC10-092A6B4F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6BD3B-5D4C-43A4-AAE9-FF373105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59A54-6801-4140-B3C2-37F626A6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B874E-2598-4AE2-8E05-4B74EE6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3FAA1-7B7F-41F9-B820-5A71E7B0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72F9E-30F5-4947-8360-FA21D9B2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E40A-8FE4-46BB-8D9F-F78A3FBE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3AA4-84EE-4870-8606-8B7DA070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E7F-1818-42B0-A4A4-AC2D208E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38AAA-6331-4E18-9DF0-C9E959A4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DB709-3840-49F5-B082-602BCE63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F4A50-C903-4967-97F5-19CA6E75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EA6EC-5A8F-4C2C-9696-3D28262A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AC8C7-2320-4781-9189-893AA420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B0046-D562-4F7A-B41C-B809976D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23E41-7A0A-44CE-8A30-1B618952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992D0-D54F-4850-8775-BC25D492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1FC60-6B20-4F50-B3E0-B0EE6130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66A66-7497-4797-B034-59262B7C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16E-8DD4-4D4E-B289-7449D7F4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E3B6C-0BFB-4240-83A9-220FA7A6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3113D-5362-4E75-B700-2092301D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B9DEF-66FE-4024-9CCA-4E9F5187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A2659-4157-4A95-A142-0176B1A9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28158-7830-4A85-8121-3C66873E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6E2EF-4A26-43D0-A945-66B19190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245E46-CC94-479E-85F6-E02FA089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F0E2B-C020-44F8-BD54-EF49EB6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69BF9-2766-4F3C-94CE-062CC55B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DEA14-BC94-4888-A05E-50402F4D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ACB-0FF8-4816-8552-C35BB650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86E92-D2CA-4498-ABA2-BABFDBB8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43E27-A99B-4D6F-9673-15B5B7CC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7FFD8-8F1F-411B-B493-6BDF5DD1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00743-CC0E-4EF0-A1A4-FAFFD0E7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CCF340-B031-4566-AEF3-08D4B01B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B2607-D244-4182-B31F-80828FE1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C5290-5B75-4CE4-84A9-A1089418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F24B1-79B9-4E81-AB03-8FEF3BFA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E1E94-579E-4D27-AD8A-55899B23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E9D82-DE59-44EB-815F-55074467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A6F-19B1-4947-9A7F-BC4591CD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F32E0-9C55-49FB-9A08-D21C79EA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8FB97-F90E-4D60-8B12-6E0269D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CB2AB-A6A0-44EB-B696-DE6FB4D5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A9433-EAC7-4070-BDD2-C945C90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6EF50-5E22-4186-9269-FE3ABA3C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255EC-AFAD-4DBD-8BB1-B8D2532C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05993-8D1A-41BF-9DAE-BFC4CCDF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BCF4-7CB5-4920-8758-FC54C43DC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E25B-D8CC-4EC1-BFB0-F688EFD32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B864-AF2C-4C81-94D4-361DAECD7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E1AB-1B42-4F60-B914-8F02E0DA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66B3-A308-44EE-B478-B6A5FC8B9FD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8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3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3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4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E59C-DDEB-49B3-A571-FACDC742B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8F07-C3E7-4AE9-84C8-E9D9E918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1DD3-42D6-41C0-8DCD-B0C3E47173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 Transformations 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o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n Algebra 2 Cours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Project Funded by the National Science Found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ritten by Kirk Tay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6" name="Picture 5" descr="Pupfish"/>
          <p:cNvPicPr/>
          <p:nvPr/>
        </p:nvPicPr>
        <p:blipFill>
          <a:blip r:embed="rId1"/>
          <a:stretch/>
        </p:blipFill>
        <p:spPr>
          <a:xfrm>
            <a:off x="1066680" y="1219320"/>
            <a:ext cx="1086120" cy="63792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7495E-006 C 0.02292 -0.01781 0.04584 -0.03539 0.06372 -0.04395 C 0.0816 -0.05251 0.09393 -0.05043 0.10764 -0.05136 C 0.12136 -0.05228 0.13247 -0.05621 0.14618 -0.04974 C 0.1599 -0.04326 0.17344 -0.02822 0.19011 -0.0118 C 0.20677 0.00462 0.2316 0.0384 0.24618 0.04834 C 0.26077 0.05829 0.26459 0.05019 0.27795 0.04834 C 0.29132 0.04649 0.31476 0.04464 0.32639 0.03655 C 0.33802 0.02845 0.34063 0.01018 0.34722 2.07495E-006 C 0.35382 -0.01018 0.35955 -0.0199 0.3658 -0.02498 C 0.37205 -0.03007 0.37882 -0.02984 0.38455 -0.03077 C 0.39028 -0.03169 0.39028 -0.03401 0.4 -0.03077 C 0.40972 -0.02753 0.43316 -0.01573 0.44288 -0.0118 C 0.45261 -0.00787 0.44931 -0.01203 0.45816 -0.0074 C 0.46702 -0.00278 0.48577 0.01203 0.49549 0.01596 C 0.50521 0.01989 0.50938 0.02567 0.5165 0.01596 C 0.52361 0.00624 0.53247 -0.03031 0.53837 -0.04257 C 0.54427 -0.05483 0.5467 -0.05297 0.55157 -0.05714 C 0.55643 -0.0613 0.56233 -0.0657 0.56806 -0.06732 C 0.57379 -0.06894 0.5783 -0.06755 0.58559 -0.06732 C 0.59288 -0.06709 0.60643 -0.06662 0.61198 -0.06593 C 0.61754 -0.06523 0.61754 -0.06338 0.61858 -0.06292 E">
                                      <p:cBhvr>
                                        <p:cTn id="4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Practice makes pretty good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99"/>
                </a:solidFill>
                <a:latin typeface="Tahoma"/>
              </a:rPr>
              <a:t>Evening Enrichment Opportuniti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AutoShape 4"/>
          <p:cNvSpPr/>
          <p:nvPr/>
        </p:nvSpPr>
        <p:spPr>
          <a:xfrm rot="21024600">
            <a:off x="1836360" y="2614680"/>
            <a:ext cx="1290600" cy="1092240"/>
          </a:xfrm>
          <a:prstGeom prst="smileyFace">
            <a:avLst>
              <a:gd name="adj" fmla="val 1296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AutoShape 5"/>
          <p:cNvSpPr/>
          <p:nvPr/>
        </p:nvSpPr>
        <p:spPr>
          <a:xfrm rot="648000">
            <a:off x="5857920" y="2704680"/>
            <a:ext cx="1295280" cy="1067040"/>
          </a:xfrm>
          <a:prstGeom prst="smileyFace">
            <a:avLst>
              <a:gd name="adj" fmla="val 1370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684920" cy="1193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pperplate Gothic Bold"/>
              </a:rPr>
              <a:t>Assess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acher Observa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of 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teraction and pee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lass demonstration and presentation of studen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C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zes an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A.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71600" y="4267080"/>
            <a:ext cx="1295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038480" y="43434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477120" y="4343400"/>
            <a:ext cx="1295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7339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73392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Albertus Extra Bold"/>
              </a:rPr>
              <a:t>FTU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371600" y="388620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s and Polynomial Func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248520" y="3962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ekton"/>
              </a:rPr>
              <a:t>Exponential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733920" y="160020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ITC Avant Garde Gothic"/>
              </a:rPr>
              <a:t>Symbolic Language Fluenc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WordArt 12"/>
          <p:cNvSpPr txBox="1"/>
          <p:nvPr/>
        </p:nvSpPr>
        <p:spPr>
          <a:xfrm>
            <a:off x="1805040" y="2971800"/>
            <a:ext cx="581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w Does an FTU Fit In?</a:t>
            </a:r>
            <a:endParaRPr b="0" lang="en-US" sz="3200" spc="1" strike="noStrike">
              <a:ln w="28440">
                <a:solidFill>
                  <a:srgbClr val="0066ff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076497200030222410lSThCs_ph"/>
          <p:cNvPicPr/>
          <p:nvPr/>
        </p:nvPicPr>
        <p:blipFill>
          <a:blip r:embed="rId1"/>
          <a:srcRect l="14508" t="14381" r="16469" b="18469"/>
          <a:stretch/>
        </p:blipFill>
        <p:spPr>
          <a:xfrm>
            <a:off x="304920" y="1143000"/>
            <a:ext cx="6705360" cy="4800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85800" y="380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Thanks! It was great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CTM Standards and California Content Standards call for all students to have skill in function transform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 Algebra 2 curriculums teach it, but not as a cohesive and comprehensive set of princip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gives students the power and knowledge to transform many types of fun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 rot="21260400">
            <a:off x="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ransform = </a:t>
            </a:r>
            <a:r>
              <a:rPr b="0" lang="en-US" sz="3600" spc="-1" strike="noStrike">
                <a:solidFill>
                  <a:srgbClr val="40458c"/>
                </a:solidFill>
                <a:latin typeface="Snap ITC"/>
              </a:rPr>
              <a:t>Chan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28600" y="1981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phs are pictures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3" name="Picture 4" descr="worldpop2050"/>
          <p:cNvPicPr/>
          <p:nvPr/>
        </p:nvPicPr>
        <p:blipFill>
          <a:blip r:embed="rId1"/>
          <a:stretch/>
        </p:blipFill>
        <p:spPr>
          <a:xfrm>
            <a:off x="838080" y="2438280"/>
            <a:ext cx="2667240" cy="238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daln195l"/>
          <p:cNvPicPr/>
          <p:nvPr/>
        </p:nvPicPr>
        <p:blipFill>
          <a:blip r:embed="rId2"/>
          <a:stretch/>
        </p:blipFill>
        <p:spPr>
          <a:xfrm>
            <a:off x="4952880" y="2362320"/>
            <a:ext cx="2743200" cy="2098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5335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s is a symbolic language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1828800" y="5410080"/>
                <a:ext cx="53341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ach the rules of FT as a single comprehensive set of princi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 add time to the Algebra 2 cale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simple, low-technology and graphing calculators to give students confidence with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increase their fluency with function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 Learning Objectives for the FT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re math vocabulary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symptote, increasing/decreasing function, odd/even function, inflection point, point symmetry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more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tter curve-sketch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foundations for further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6" name="Group 15"/>
          <p:cNvGrpSpPr/>
          <p:nvPr/>
        </p:nvGrpSpPr>
        <p:grpSpPr>
          <a:xfrm>
            <a:off x="2133720" y="2895480"/>
            <a:ext cx="3885840" cy="1447920"/>
            <a:chOff x="2133720" y="2895480"/>
            <a:chExt cx="3885840" cy="1447920"/>
          </a:xfrm>
        </p:grpSpPr>
        <p:grpSp>
          <p:nvGrpSpPr>
            <p:cNvPr id="517" name="Group 5"/>
            <p:cNvGrpSpPr/>
            <p:nvPr/>
          </p:nvGrpSpPr>
          <p:grpSpPr>
            <a:xfrm>
              <a:off x="2133720" y="2895480"/>
              <a:ext cx="3885840" cy="1389960"/>
              <a:chOff x="2133720" y="2895480"/>
              <a:chExt cx="3885840" cy="138996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2133720" y="3550320"/>
                <a:ext cx="38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2448720" y="2895480"/>
                <a:ext cx="3150720" cy="1389960"/>
              </a:xfrm>
              <a:custGeom>
                <a:avLst/>
                <a:gdLst/>
                <a:ahLst/>
                <a:rect l="l" t="t" r="r" b="b"/>
                <a:pathLst>
                  <a:path w="4320" h="2880">
                    <a:moveTo>
                      <a:pt x="0" y="0"/>
                    </a:moveTo>
                    <a:cubicBezTo>
                      <a:pt x="312" y="1272"/>
                      <a:pt x="624" y="2544"/>
                      <a:pt x="1152" y="2592"/>
                    </a:cubicBezTo>
                    <a:cubicBezTo>
                      <a:pt x="1680" y="2640"/>
                      <a:pt x="2640" y="240"/>
                      <a:pt x="3168" y="288"/>
                    </a:cubicBezTo>
                    <a:cubicBezTo>
                      <a:pt x="3696" y="336"/>
                      <a:pt x="4008" y="1608"/>
                      <a:pt x="4320" y="28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>
                <a:off x="2807640" y="4079880"/>
                <a:ext cx="94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>
                <a:off x="4353840" y="302760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2" name="Line 10"/>
              <p:cNvSpPr/>
              <p:nvPr/>
            </p:nvSpPr>
            <p:spPr>
              <a:xfrm flipH="1">
                <a:off x="4233600" y="2904840"/>
                <a:ext cx="80892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3" name="Line 11"/>
              <p:cNvSpPr/>
              <p:nvPr/>
            </p:nvSpPr>
            <p:spPr>
              <a:xfrm>
                <a:off x="4528800" y="2904840"/>
                <a:ext cx="71388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2734560" y="3884400"/>
                <a:ext cx="83988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2912400" y="3906720"/>
                <a:ext cx="9450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26" name="Line 14"/>
            <p:cNvSpPr/>
            <p:nvPr/>
          </p:nvSpPr>
          <p:spPr>
            <a:xfrm>
              <a:off x="4059000" y="2895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troducing the Big 6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Quadratic   </a:t>
            </a:r>
            <a:r>
              <a:rPr b="1" lang="en-US" sz="2000" spc="-1" strike="noStrike">
                <a:solidFill>
                  <a:srgbClr val="40458c"/>
                </a:solidFill>
                <a:latin typeface="Bradley Hand ITC"/>
              </a:rPr>
              <a:t>Sketching Techniq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ubic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tencil"/>
              </a:rPr>
              <a:t>Generalizing       </a:t>
            </a:r>
            <a:r>
              <a:rPr b="0" lang="en-US" sz="2400" spc="-1" strike="noStrike">
                <a:solidFill>
                  <a:srgbClr val="40458c"/>
                </a:solidFill>
                <a:latin typeface="Impact"/>
              </a:rPr>
              <a:t>power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bsolute Valu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quare Roo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Exponential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4648320" y="5334120"/>
                <a:ext cx="380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cti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uided Inquiry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52252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ork collaboratively under well-define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ake conclusions and conjectures based 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765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udent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Guided Inquiry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clear rules for collabo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time limi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mmarize points of the activ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ss students’ understanding and modify lessons as necessar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eacher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39" name="Picture 5" descr="20060704kaisertop"/>
          <p:cNvPicPr/>
          <p:nvPr/>
        </p:nvPicPr>
        <p:blipFill>
          <a:blip r:embed="rId6">
            <a:lum contrast="-42000"/>
          </a:blip>
          <a:stretch/>
        </p:blipFill>
        <p:spPr>
          <a:xfrm>
            <a:off x="4952880" y="1371600"/>
            <a:ext cx="2629080" cy="19717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1:54:05Z</dcterms:created>
  <dc:creator>Ed_user</dc:creator>
  <dc:description/>
  <dc:language>en-US</dc:language>
  <cp:lastModifiedBy>LEGION</cp:lastModifiedBy>
  <dcterms:modified xsi:type="dcterms:W3CDTF">2017-07-06T06:34:21Z</dcterms:modified>
  <cp:revision>17</cp:revision>
  <dc:subject/>
  <dc:title>Function Transformations Unit</dc:title>
</cp:coreProperties>
</file>